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5F0-C410-4A0C-91FD-22FCF7AC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F57-218D-4F99-A722-029CCEC1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1D0-7C3F-4D90-94CD-FF613608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8B2-1B88-4309-B5C0-6B8DA10B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8C2-038B-4995-8CA1-D7FE339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9DB-BCE4-46B0-A101-8D32E53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616-3884-4EB5-9C36-079639D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05F-D52E-4F59-8BC6-80AF8DD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5B2-CE83-4BB2-815C-A27882A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142-D6F0-458E-B659-C365A96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DF7-E4E1-4BB3-8EBB-A95D3D8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769-1DEA-4472-BA73-92C2560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1C4D-2F46-40C6-86C4-2B2652E93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841800">
            <a:off x="4648320" y="4038480"/>
            <a:ext cx="3376440" cy="223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16400">
            <a:off x="685800" y="1219320"/>
            <a:ext cx="80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310200">
            <a:off x="304920" y="4190760"/>
            <a:ext cx="2438280" cy="208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12400">
            <a:off x="3276360" y="3276720"/>
            <a:ext cx="13716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mi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 rot="1225800">
            <a:off x="3352320" y="4800240"/>
            <a:ext cx="57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20904600">
            <a:off x="1980720" y="1066320"/>
            <a:ext cx="2971800" cy="183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81760" y="0"/>
            <a:ext cx="3162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3:18:19Z</dcterms:created>
  <dc:creator> </dc:creator>
  <dc:description/>
  <dc:language>en-US</dc:language>
  <cp:lastModifiedBy> </cp:lastModifiedBy>
  <dcterms:modified xsi:type="dcterms:W3CDTF">2009-12-10T23:18:50Z</dcterms:modified>
  <cp:revision>1</cp:revision>
  <dc:subject/>
  <dc:title>Slide 1</dc:title>
</cp:coreProperties>
</file>